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CD3-94AE-408A-AF1C-02616F8B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297-4C05-4BF9-9636-5823C48F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AFD-C82C-4D8A-808E-29087FC9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CD5-28FA-4671-9DA6-5F0475BD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9DB1-49A7-4D95-AF95-46335C36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65C0-FC7D-4EB0-A5EC-200542A0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6989-6481-48E3-9204-1ECF1347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F273-12AE-4E7C-9656-1CB24B7F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76FD-4315-4804-8B0E-2CE806CA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E013-1B88-4D69-A7FB-7B500DA5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2141-E377-45CB-8BAC-297DE101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C741-E5EB-40ED-B141-3C5E58DF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CB2D-2AC8-4F94-B088-94470174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227C-3E5E-4A2F-B986-A16BA799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E3C1-A678-4BA9-A862-4AC21BBD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A335-7F97-43E6-B3E9-BB34BA28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862F-E537-4F84-96C0-1BD72CCE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5E043-3A10-408A-B86E-DCC11F33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10AF0-027C-423B-BE09-0D01E01B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70098-5B1A-4FE4-8581-2FA8CFA3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82899-E0D6-4706-A6C7-8FEDB7A1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34B24-C670-409A-AA4A-F8F25A30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D03F-A60A-4E5B-ABA4-29056DAF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5E59D-A39E-4309-BAF4-F64A15C6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1F6B7-DD5B-4A35-8E41-552B0077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BFDEF-E135-4EC7-A288-E7459E43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42524-5DC6-4329-ACA4-55F57FC7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F4DCA-D4BE-4FEA-9D22-93D54546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28C1E-AD68-43E9-BFDD-22FC605C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5318E-6378-40C5-B783-69A826C2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AAC48-27B2-48D0-9DD3-50589EEE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642C6-C7BD-4F1D-BC03-D7E003F2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E5CC4-8F4A-4505-89B2-FA8B6C36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75FD-0697-4C62-BCE4-B0F662E4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1B858-E480-4DA2-A006-6BE1F01D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2A87C-8F59-4DC3-B2FF-42BCD969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6901C-94F7-4A99-8DC3-E02602D4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5B671-3E1A-470E-9CA5-75E09D98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6710D-F88D-4945-B71C-4851E233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E277E-20E3-462F-9245-77A5277D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44F0D-05BA-4FFA-BA0B-7986C2EB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E9195-28D0-4275-9A33-D1C444F9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53D3A-1CAD-475A-9744-7BA0B9F0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AD9F-2FAB-457C-A35E-9F007F9B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F28-59D2-4727-8749-490CF7C2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5E6-BC5A-481F-B6C6-38BF0389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2C0-5319-4CD1-99A6-BA1240AA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3E7-E767-4498-B628-EDC435C7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E2E3-9380-4CA6-944F-662051427265}" type="slidenum">
              <a:rPr b="0" lang="es-PE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3C5C-6267-49D4-9BC5-7E1EBB5FFB45}" type="slidenum">
              <a:rPr b="0" lang="es-PE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DF88-0665-404B-907F-36C81475AAE5}" type="slidenum">
              <a:rPr b="0" lang="es-PE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F12A-20D2-442A-96BE-CB35CDACD2B0}" type="slidenum">
              <a:rPr b="0" lang="es-PE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bW0nfLDPQ0&amp;translated=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04617b"/>
                </a:solidFill>
                <a:latin typeface="Calibri"/>
              </a:rPr>
              <a:t>LA SANT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2" descr="teresadecalcuta.jpg teresa de calcuta image by tierrasanta_album"/>
          <p:cNvPicPr/>
          <p:nvPr/>
        </p:nvPicPr>
        <p:blipFill>
          <a:blip r:embed="rId1"/>
          <a:stretch/>
        </p:blipFill>
        <p:spPr>
          <a:xfrm>
            <a:off x="2928960" y="2071800"/>
            <a:ext cx="3286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000" spc="-1" strike="noStrike">
                <a:solidFill>
                  <a:srgbClr val="04617b"/>
                </a:solidFill>
                <a:latin typeface="Calibri"/>
              </a:rPr>
              <a:t>Objetivos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dentificar caminos cristianos hacia la sant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prender que la Iglesia no fabrica o inventa santos, pues es Dios quien los hace sant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conocer que los santos son un ejemplo y una ayuda continua para seguir a Jesú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http://www.virgendelpozo.org/wp-content/uploads/2009/07/07noviembretodoslossantos.jpg"/>
          <p:cNvPicPr/>
          <p:nvPr/>
        </p:nvPicPr>
        <p:blipFill>
          <a:blip r:embed="rId1"/>
          <a:stretch/>
        </p:blipFill>
        <p:spPr>
          <a:xfrm>
            <a:off x="3071880" y="4184640"/>
            <a:ext cx="207972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00040" y="2858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¿Qué es la sant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santidad absoluta es característica propia de Dios.   El es la fuente de toda santidad y, así, llamamos santas las cosas relacionadas con él o dedicadas a él:  “Santas Escrituras”, “un lugar santo”, “Tierra Santa”, “Santa Cruz”.    También llamamos santos a los hombres y mujeres que El santificó.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http://www.dentrocine.com/wp-content/uploads/2007/05/santa-biblia.jpg"/>
          <p:cNvPicPr/>
          <p:nvPr/>
        </p:nvPicPr>
        <p:blipFill>
          <a:blip r:embed="rId1"/>
          <a:stretch/>
        </p:blipFill>
        <p:spPr>
          <a:xfrm>
            <a:off x="0" y="3857760"/>
            <a:ext cx="2786040" cy="3000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servicioskoinonia.org/cerezo/dibujosB/53exaltacioncruz.jpg"/>
          <p:cNvPicPr/>
          <p:nvPr/>
        </p:nvPicPr>
        <p:blipFill>
          <a:blip r:embed="rId2"/>
          <a:stretch/>
        </p:blipFill>
        <p:spPr>
          <a:xfrm>
            <a:off x="3071880" y="3429000"/>
            <a:ext cx="1942920" cy="3201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http://www.pasearxpasear.com.ar/tierrasanta/tierrasanta2.gif"/>
          <p:cNvPicPr/>
          <p:nvPr/>
        </p:nvPicPr>
        <p:blipFill>
          <a:blip r:embed="rId3"/>
          <a:stretch/>
        </p:blipFill>
        <p:spPr>
          <a:xfrm>
            <a:off x="5330880" y="3976560"/>
            <a:ext cx="3813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35712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Hay muchos caminos para llegar a la santidad.  Todos, sea cual sea nuestra vida, podemos ser santos.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Unos llegaron a la santidad por la vía del martirio (dar la vida por Cristo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Hay santos en todos los estados de la vida: vírgenes, religiosos, casados, viudos, sacerdotes, jóvenes, niños, reyes, pordioseros, ricos y pobres, sabios y campesinos sin estudio, esclavos, soldados  y ladrones (como el buen ladrón crucificado junto a Jesús) han alcanzado la sant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http://inteligenciacatolica.files.wordpress.com/2009/07/comuniondelossantos1.jpg"/>
          <p:cNvPicPr/>
          <p:nvPr/>
        </p:nvPicPr>
        <p:blipFill>
          <a:blip r:embed="rId1"/>
          <a:stretch/>
        </p:blipFill>
        <p:spPr>
          <a:xfrm>
            <a:off x="3071880" y="4137120"/>
            <a:ext cx="2857320" cy="2720880"/>
          </a:xfrm>
          <a:prstGeom prst="rect">
            <a:avLst/>
          </a:prstGeom>
          <a:ln w="0">
            <a:noFill/>
          </a:ln>
        </p:spPr>
      </p:pic>
      <p:sp>
        <p:nvSpPr>
          <p:cNvPr id="206" name="SMARTPenAnnotation0"/>
          <p:cNvSpPr/>
          <p:nvPr/>
        </p:nvSpPr>
        <p:spPr>
          <a:xfrm>
            <a:off x="7456320" y="3098880"/>
            <a:ext cx="27000" cy="4680"/>
          </a:xfrm>
          <a:custGeom>
            <a:avLst/>
            <a:gdLst>
              <a:gd name="textAreaLeft" fmla="*/ 0 w 27000"/>
              <a:gd name="textAreaRight" fmla="*/ 27360 w 2700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6790" h="5146">
                <a:moveTo>
                  <a:pt x="26789" y="0"/>
                </a:moveTo>
                <a:lnTo>
                  <a:pt x="22049" y="4741"/>
                </a:lnTo>
                <a:lnTo>
                  <a:pt x="19660" y="5145"/>
                </a:lnTo>
                <a:lnTo>
                  <a:pt x="17075" y="4422"/>
                </a:lnTo>
                <a:lnTo>
                  <a:pt x="9406" y="259"/>
                </a:lnTo>
                <a:lnTo>
                  <a:pt x="8255" y="173"/>
                </a:lnTo>
                <a:lnTo>
                  <a:pt x="6495" y="11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000" spc="-1" strike="noStrike">
                <a:solidFill>
                  <a:srgbClr val="04617b"/>
                </a:solidFill>
                <a:latin typeface="Calibri"/>
              </a:rPr>
              <a:t>¿Quién puede ser santo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anto es el que vive en gracia de Dios.   El que evita firmemente el pe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anto es el que hace el bi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anto es el que ama con sincer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anto es el que habla de Dios no sólo con la palabra, sino con cada uno de sus act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anto es el que cultiva día a día una amistad íntima con Dios a través de la or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Y por difícil que nos parezca, hay muchos santos entre nosotr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000" spc="-1" strike="noStrike">
                <a:solidFill>
                  <a:srgbClr val="04617b"/>
                </a:solidFill>
                <a:latin typeface="Calibri"/>
              </a:rPr>
              <a:t>Link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youtube.com/watch?v=kbW0nfLDPQ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22:56:58Z</dcterms:created>
  <dc:creator>Computo</dc:creator>
  <dc:description/>
  <dc:language>en-US</dc:language>
  <cp:lastModifiedBy>Computo</cp:lastModifiedBy>
  <dcterms:modified xsi:type="dcterms:W3CDTF">2009-11-10T22:57:37Z</dcterms:modified>
  <cp:revision>1</cp:revision>
  <dc:subject/>
  <dc:title>LA SANTIDAD</dc:title>
</cp:coreProperties>
</file>